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E65-A088-4067-AC3A-60FB7F6F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5AA-E268-41F2-B1AA-86E2434B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86F-3B2B-465E-A924-0D074747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B7E-8D6A-4E16-B61F-AD01270D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17D-3984-491F-8BA7-1A7954DE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B18-E013-4736-AADB-822BEFA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DCB-D298-4872-A151-5B72D4F8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AE3-2714-4592-B7EA-1D859379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7DD-4B02-4EFF-873C-9B3973D2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15F-0A35-4758-8057-141B827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E48-CF45-4973-8D76-BA5FD93D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702-63E1-4BFD-8DDB-65F02154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5201-D31A-46C1-936C-D5ED0A6F94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6356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1752480"/>
            <a:ext cx="73915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ERCORRIAMO LA VIA DELLA CRO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297180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3300"/>
                </a:solidFill>
                <a:latin typeface="Times New Roman"/>
              </a:rPr>
              <a:t>CON GESU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11160"/>
            <a:ext cx="9829800" cy="7174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685800"/>
            <a:ext cx="5486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GESU’ E’ CONDANNATO A M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005360"/>
            <a:ext cx="87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llora Pilato, dopo avere fatto flagellare Gesù, lo consegna ai soldati perché lo mettano in croce.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tanto tutti gli apostoli sono fuggiti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829800" cy="693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457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folla che la domenica delle Palme ha gridato: “Osanna! Benedetto colui che viene nel nome del Signore!”, ora grida: “Crocifiggilo!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87692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iutaci, Signore Gesù, a non chiudere mai il nostro cuore, ma a rispondere con  generosità quando ci parli e ci invi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1:33:48Z</dcterms:created>
  <dc:creator>Scuola</dc:creator>
  <dc:description/>
  <dc:language>en-US</dc:language>
  <cp:lastModifiedBy>Stefo&amp;Stefi</cp:lastModifiedBy>
  <dcterms:modified xsi:type="dcterms:W3CDTF">2007-03-31T16:19:57Z</dcterms:modified>
  <cp:revision>10</cp:revision>
  <dc:subject/>
  <dc:title>Presentazione di PowerPoint</dc:title>
</cp:coreProperties>
</file>